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1F5-7CF5-4835-B740-0C630D39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6A2-7C1F-466A-AF66-480D34D3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449-AB26-417C-AC8D-82DD397C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2C5-1E88-4694-B170-C1A33AD5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78A-8A94-4C25-8352-682B0CE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402-7B2F-40B5-8D56-B559C6F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C70-19CC-4755-819E-3CD351C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A5F-FC3C-4245-8F60-6FC1399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87B-4D89-44DA-B1B8-7847A1FF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411-9648-40AC-B53A-A8AA74E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871-DDCD-4722-9262-E599A1A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154-A325-46D5-B362-118F049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B748-7CD2-4318-BA71-F8B39BD2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0:52:24Z</dcterms:created>
  <dc:creator>James Dorsey IV</dc:creator>
  <dc:description/>
  <dc:language>en-US</dc:language>
  <cp:lastModifiedBy>James Dorsey IV</cp:lastModifiedBy>
  <dcterms:modified xsi:type="dcterms:W3CDTF">2011-04-04T00:53:09Z</dcterms:modified>
  <cp:revision>1</cp:revision>
  <dc:subject/>
  <dc:title>Inclusion</dc:title>
</cp:coreProperties>
</file>